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7F40-3207-49A2-9987-ABCC6E11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932F-5F57-4FF4-8229-48E160B7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9163-D31E-4176-9B51-3593BA6C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26C-4E3E-4379-B40C-A9C36C6F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6860-2738-4194-A695-DAF85417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24FE-12FB-4110-95D2-31ED7009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D3E-D275-4DF4-B6EC-A4A5AA81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5635-9A5E-4531-BBD5-9DBAF10C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BDF8-D929-4960-8AFF-B30BE337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C42C-9068-4B8A-94D6-3AFF045F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66DF-AA59-49E8-B737-C592C12E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7CDA-EEBD-4559-A88D-75BB0E35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D919-3338-4B75-9EE8-D4D8BD0D1C3D}" type="slidenum"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BenQ Confidential Tuesday, February 07,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Jerry – DL Support</a:t>
            </a:r>
            <a:endParaRPr b="1" lang="en-US" sz="48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5602320" cy="157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Allan Ha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BML BenQ PHE AAL RD 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Tuesday, February 07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DL support project organization 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DL working area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Workareas/packages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Milestones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Risk’s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9564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08600" y="166680"/>
            <a:ext cx="133956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08600" y="166680"/>
            <a:ext cx="133956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3988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252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252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3556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5160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5160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51600" y="1014480"/>
            <a:ext cx="123840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51600" y="1014480"/>
            <a:ext cx="123840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3340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08600" y="1604880"/>
            <a:ext cx="422244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8600" y="1604880"/>
            <a:ext cx="422244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46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08600" y="2333520"/>
            <a:ext cx="422244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08600" y="2352600"/>
            <a:ext cx="422244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1412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3068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3068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9040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487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DL Workareas/packag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1573200"/>
            <a:ext cx="878544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Mileston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8261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3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3-06 (B1)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8/04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7/05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2/06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3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8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A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8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3-HW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7/08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P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1/09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DS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5/09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3/S4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9/10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Risk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9964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6:09:31Z</dcterms:created>
  <dc:creator>BMLaha</dc:creator>
  <dc:description/>
  <dc:language>en-US</dc:language>
  <cp:lastModifiedBy>BMLaha</cp:lastModifiedBy>
  <dcterms:modified xsi:type="dcterms:W3CDTF">2006-02-07T17:05:42Z</dcterms:modified>
  <cp:revision>27</cp:revision>
  <dc:subject/>
  <dc:title>Jerry - DL</dc:title>
</cp:coreProperties>
</file>